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EEA0-64E2-47E1-B18E-936E4E74B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49A4-9FE5-432F-B611-CDA14F8DF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EC2-0A37-44E4-95AA-0806411D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683-3727-49F6-91A3-39A9CC1C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457-5E3A-4C74-BC8D-B0530C94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D0A-C5B3-479C-ABBB-8A6AFCCE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7EC-1531-403C-8E2B-A07E8973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33B-9F44-4369-A77B-11A52517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908-DBEF-4AD3-8EAA-569009CD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BF7-3260-4768-A358-2268808E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708-6685-4701-B4AB-592B18EA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4B46-66B8-4786-87B1-728FB753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7FB-90AB-45F6-9349-23C495C9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4D3-08DE-42AA-9109-8AF2545A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085F-39F8-44A1-BE0A-11FD61696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fes-framework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aming the Tower of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ftware Assurance Findings Expression Schema (SAFES)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n Barn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6 June, 20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tential 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1768320"/>
          <a:ext cx="8763120" cy="5089680"/>
        </p:xfrm>
        <a:graphic>
          <a:graphicData uri="http://schemas.openxmlformats.org/drawingml/2006/table">
            <a:tbl>
              <a:tblPr/>
              <a:tblGrid>
                <a:gridCol w="1298520"/>
                <a:gridCol w="746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vehicle of publication (IP contr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transforms to and from native sche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 SAFES to a more stable and permanent web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comprehensive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authoring/editing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e report generation too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 a real project using SAF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more tools within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actor schema for efficiency and redundanc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alignment between SAFES and KDM, ARM, SAEM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e schema infrastructure (e.g. XMI compliant) for improved automation interchange and enabling framework lay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ine schema to add new tools outside the initial 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day’s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05740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standard reporting format for SwA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perspective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combine results of multi-tool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inefficient for tool vendors looking to integrate results with other tools (very costly and redunda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trend across assessments from different tools or analy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y difficult to automate meta-analysis and the assessment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Framework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Assurance Findings Expression Schema (SAF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1 (v0.1) sponsored by the NSA Center for Assured Software (C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nd encourage consistency in software assurance tool and service 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ablish more structured and effectively useful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integration of results from multiple software assurance tools 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 automated processing of software assurance tool and servic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 from state of the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 with state of the 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a comprehensive schema covering all aspects of software assurance analysis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ive for usability, flexibility and 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ure towards f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Initial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scope perspectives for initial effort (v0.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source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binary cod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application penet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ecurit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z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a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hitectural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vendors actively collaborating others were passively incorp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3123720"/>
            <a:ext cx="38098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fi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tego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nalysis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or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tection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4876920" y="304812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, content &amp;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siness/mission and security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assuranc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 on threa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57200" y="205740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S is a comprehensive and detailed 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Sampling of Potential Use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057400"/>
            <a:ext cx="3886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erstand the Business Context of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echnical risks to business 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 the application attack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relevant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ventory and characteriz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threa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FISMA security categorization (FIPS-19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Security Planning (SP800-1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MA Risk Assessment (SP800-3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uct multi-tool/multi-perspec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false posi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aracter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oritize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ntent Placeholder 2"/>
          <p:cNvSpPr/>
          <p:nvPr/>
        </p:nvSpPr>
        <p:spPr>
          <a:xfrm>
            <a:off x="4876920" y="2133720"/>
            <a:ext cx="38862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late find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itch dynamic &amp; static location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grate automated and manual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use common mitigation ad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ssessme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different versions of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fine an assurance case for an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reate an assurance case complianc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ort CWE content into local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common finding trends across portfolio by technology con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ntain analysis accoun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dentify trends in tool and rule effic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pping between various tool level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Maturation Paths Beyond v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FES Maturation Pa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bility: primarily focused on efforts surrounding the schema to make it more usable by the community such as native transforms, tool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ment: primarily focused on improving the quality and coverage of the schema itself with activities such as adding new perspectives, adding new schemas, fixing erro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lization: primarily focused on gradually (as quickly as is prudent and accepted by the targeted user community) incorporating in formal standards-based approaches (vocabulary, structure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AFES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0.1 completed and now available on the SAFES websi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afes-framework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working with sponsor to finalize decision of next steps to pur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ing up new supporters/spon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with various stakeholders in the community to support their use of SAFES and elicit their collab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04:33Z</dcterms:created>
  <dc:creator>Sean Barnum</dc:creator>
  <dc:description/>
  <dc:language>en-US</dc:language>
  <cp:lastModifiedBy>Administrator</cp:lastModifiedBy>
  <dcterms:modified xsi:type="dcterms:W3CDTF">2010-06-14T17:31:32Z</dcterms:modified>
  <cp:revision>2</cp:revision>
  <dc:subject/>
  <dc:title>Taming the Tower of Babel: Software Assurance Findings Expression Schema (SAFES) Framework </dc:title>
</cp:coreProperties>
</file>